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F3E-85A1-497D-97C5-70CA934C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806-CA98-4AB0-9659-FD5F92F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4B8-B9C2-4753-B5AD-DE236CCD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481-41AD-4D93-B741-EA5DB203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C453-B5AC-4145-AAE8-8D887D89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C043-63D5-4323-BF12-3E37FC4D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47B0-BA80-4831-9CB7-8CD58702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49A8-F236-43F0-890F-D1869A30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3EC8-3FA5-4EEC-BCA4-493C51C9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4744-A501-4377-858E-577453E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C741-5D91-4595-A771-ED2F1F5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A0A-0EEC-491F-92DF-E288B029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F4A-5679-4294-8990-9B8034C3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C661-F2F6-495C-99B6-D4390920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7D5F-35C6-4113-8D51-3F51434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812D-008E-4D8B-BBFF-5675D151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7E4A-7CC8-4DE4-8A1C-A88A62B6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FFF2-7C0C-43E7-9A65-D363CDBC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D458-6E23-4B9A-927A-F4C83CF9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52F5-A53B-4C82-8CAE-9C49AD4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D9F6-CD94-4C68-8E08-81909132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80E2-53A7-406F-A23D-7B3F7560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D5B-3BF2-400D-A38D-D24B8D0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4907-1F57-48C5-8605-70E3FC18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287E-8960-40CA-B16F-C779C2C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5DFD-2AB3-4BC2-9562-BC9AFC8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FD20A-630B-49E9-9C04-714489B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E240-1272-4111-A78F-1DC0272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DEBA-12A6-49CC-A96B-8581B15E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F3C2-7133-4011-A132-38528A09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C141-DDFD-43F4-AD35-6A1E5CCF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C6C8-9FB1-4C27-919A-4C516203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C66B-511E-4A06-923E-6004D177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5B6-5891-4636-83AA-7356A67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3250-5BCF-49D6-9330-6749BA9B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6678-89F5-42DB-AFBE-83558CB3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A99E-39E6-4291-83F0-68FE7E4B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5C38-BA31-4850-BE30-2CB9BD9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32E5-C16D-406D-88F9-595B3FE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3B83-229C-4DD2-ACCA-D5A82E60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24C1-EB4E-45C5-8EB0-80DACDB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1A68D-3D01-4D4F-AD79-9FE82356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FB74-6F9F-4786-9123-AAD2609B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DFA-EAC8-415D-ACAD-A50B1A0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1D2-C01F-4FB7-94D0-4208AF71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A5E-6C3E-499E-9A5A-6A2CDE1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007-F69F-4C89-B182-C39084CC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93A-95C0-4EDD-BEC0-145B786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3A586-22A7-4BC9-B718-62BC71E9B1F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37E23-284E-4915-A3A5-01528189F1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87F56-CEE3-41AA-B5D0-43BE8527249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6C0FA-B9D7-46A3-970E-B090304E0D5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1A118-F945-4B63-BF9D-18614CF7B4D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60A98-F0BF-489D-BC95-FBED0EF8505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6B88D-47A1-44A0-8B02-4FB92CAFEFA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564FC-DD2F-402C-B070-1C258B3676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an Bauer Author Study:  Reading Worksh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gurative Langu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Simile: 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 comparison of two unlike things using the words “like” or “as”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Metaphor: 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 comparison of two unlike things 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not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using the words “like” or “as”; a comparison where you state that one thing 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nother thing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Personification: 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en an object or animal is given human characteristics; a thing is compared to a person doing something only people can do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zing Figurative Langu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oday, you will look at several examples of figurative language found in 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Hope Was Her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r each example, you need to do 2 thing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y the two things that are being compar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lain the nature of the comparis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n other words, how is one thing like the other thing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What is Joan Bauer trying to say by comparing these two objects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zing Figurative Langu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461960"/>
          <a:ext cx="8229600" cy="4187880"/>
        </p:xfrm>
        <a:graphic>
          <a:graphicData uri="http://schemas.openxmlformats.org/drawingml/2006/table">
            <a:tbl>
              <a:tblPr/>
              <a:tblGrid>
                <a:gridCol w="3338640"/>
                <a:gridCol w="1771560"/>
                <a:gridCol w="3119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ample of Figurativ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are the two things being compar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is the nature of the comparison?  (How is one thing like the other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e’d been sobbing by the decaf urn, having accidentally spilled a bowl of navy bean soup in the lap of a man who was, as we say in the restaurant came, one taco short of a combo platter” (1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stor Al B. Hall comes into the diner like a bolt of lightning” (63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 Time Tas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omplete the Analyzing Figurative Language Task with the people at your table or, if you prefer, independentl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o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Volunteers share out their Analyzing Figurative Language chart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4:07Z</dcterms:created>
  <dc:creator>Erin Hamilton</dc:creator>
  <dc:description/>
  <dc:language>en-US</dc:language>
  <cp:lastModifiedBy>Erin Hamilton</cp:lastModifiedBy>
  <dcterms:modified xsi:type="dcterms:W3CDTF">2010-11-03T22:26:47Z</dcterms:modified>
  <cp:revision>3</cp:revision>
  <dc:subject/>
  <dc:title>Creating Character Similes</dc:title>
</cp:coreProperties>
</file>